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224C-CF37-498C-924B-83B32576D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500C-B88D-47C1-A5CC-2B80F93EB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2E05-9AF5-4864-A45B-8C3D94FC8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9665-A486-4EC1-A5F4-EA7272871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82FB-BCFE-46EB-980F-DBDF1C61E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24AA-33C0-4574-8617-B056147A8F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1868-2A56-46F1-A487-980C105386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85BE-EAE3-4AB5-9D5D-25FB53BFF0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63AB-939B-4428-A497-73AB6E4F1E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79AF-F105-40D6-A0DB-6E829E6EEB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EAA8-7AF5-47A7-B058-C4013A4FB4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9D50-B676-4717-93A8-4FE17C9A0D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EB6E-58B9-4ABE-B748-37FDF935BB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2A3F-462E-4A08-A64B-412A63A682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A1B6-891D-44BE-B7DE-A1506B1D40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48C2-63A8-4096-A57F-60D78D61F3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E8B5-6339-4A37-BA73-3C9F7B6AB3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9F1C-65D2-473A-B483-2A447AFEA1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8F6-E6DA-4CB5-9B38-B65D01F5F2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519-68BA-4FDD-9074-535564433E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430-35CD-4CC9-AAA1-5F4FBC0EB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D9C2-9CC5-4454-AC60-1303934F1F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C1A-129C-47EA-AD97-DC68E486B8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B7E-88E1-4489-840B-1F84FA4BB4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860-A781-474C-A73E-901694363F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B94-70DF-442A-8831-B6BB505A83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3BF-52F8-469C-9CA5-F32B4CF403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E3D-B7E7-43BF-9EA1-16BC63EAC5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9B2-D7D3-440B-8B90-89DD8FFE2B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25A-7774-4AD7-BF07-A6726A59D8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52C-2321-43AF-A86E-544B338113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E0ED-070C-4930-9346-D1CBC0E1E1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9EB0-FD1B-4260-ACCD-329547FE01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599F-F439-429D-A9BD-CA21707B293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CF56-7FDC-43D0-94F9-5FBEB9B8D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B8DF-6AAC-4D67-B058-39E639DDB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03BC-2813-415B-94CE-E7A69DFDF4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  <a:ea typeface="MS PGothic"/>
              </a:rPr>
              <a:t>Accounting 1, 7th edition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43080" indent="-343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43080" indent="-3430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43080" indent="-3430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46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35640" indent="-3564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35640" indent="-3564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35640" indent="-3564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BD6A-7892-41DA-9A48-6A5179631F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  <a:ea typeface="MS PGothic"/>
              </a:rPr>
              <a:t>Accounting 1, 7th edition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39480" indent="-3394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39480" indent="-3394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39480" indent="-3394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E76D-8D6D-4945-9DD6-9FDBC7C872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Accounting, 7th edition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39480" indent="-3394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39480" indent="-3394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39480" indent="-3394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174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213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14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16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he Simple Ledger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8280" y="1972440"/>
            <a:ext cx="2879640" cy="48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62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5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E41C-ECB8-48EA-9437-35EDD1389305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1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9528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owerPoint 4</a:t>
            </a: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          Chapter 4</a:t>
            </a:r>
            <a:endParaRPr b="0" lang="en-US" sz="24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981000"/>
            <a:ext cx="8805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>
              <a:lnSpc>
                <a:spcPct val="120000"/>
              </a:lnSpc>
              <a:tabLst>
                <a:tab algn="l" pos="0"/>
                <a:tab algn="l" pos="1596960"/>
                <a:tab algn="l" pos="336708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igure 4.2: Pacific Trucking Balance She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61" name="Picture 5" descr="fg003_ppt_acct1_7e_tr"/>
          <p:cNvPicPr/>
          <p:nvPr/>
        </p:nvPicPr>
        <p:blipFill>
          <a:blip r:embed="rId1"/>
          <a:stretch/>
        </p:blipFill>
        <p:spPr>
          <a:xfrm>
            <a:off x="631800" y="1442880"/>
            <a:ext cx="8507520" cy="398016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4083-A11D-4954-8ECB-678E9E7AD05B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9528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owerPoint 4</a:t>
            </a: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          Chapter 4</a:t>
            </a:r>
            <a:endParaRPr b="0" lang="en-US" sz="24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95280" y="981000"/>
            <a:ext cx="8805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>
              <a:lnSpc>
                <a:spcPct val="120000"/>
              </a:lnSpc>
              <a:tabLst>
                <a:tab algn="l" pos="0"/>
                <a:tab algn="l" pos="1596960"/>
                <a:tab algn="l" pos="336708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igure 4.3: Pacific Trucking Ledger 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Opening Bala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7DB2-27C8-4F34-AA43-3568D10B4CBF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66" name="Picture 8" descr="fg004_ppt_acct1_7e_tr"/>
          <p:cNvPicPr/>
          <p:nvPr/>
        </p:nvPicPr>
        <p:blipFill>
          <a:blip r:embed="rId1"/>
          <a:stretch/>
        </p:blipFill>
        <p:spPr>
          <a:xfrm>
            <a:off x="541440" y="1916280"/>
            <a:ext cx="851508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9528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owerPoint 4</a:t>
            </a: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3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          Chapter 4</a:t>
            </a:r>
            <a:endParaRPr b="0" lang="en-US" sz="24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95280" y="981000"/>
            <a:ext cx="8879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>
              <a:lnSpc>
                <a:spcPct val="120000"/>
              </a:lnSpc>
              <a:tabLst>
                <a:tab algn="l" pos="0"/>
                <a:tab algn="l" pos="1596960"/>
                <a:tab algn="l" pos="336708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gure 4.5: Pacific Trucking Ledger 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 Transactions</a:t>
            </a:r>
            <a:endParaRPr b="0" lang="en-US" sz="20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69" name="Picture 10" descr="fg005_ppt_acct1_7e_tr-01"/>
          <p:cNvPicPr/>
          <p:nvPr/>
        </p:nvPicPr>
        <p:blipFill>
          <a:blip r:embed="rId1"/>
          <a:stretch/>
        </p:blipFill>
        <p:spPr>
          <a:xfrm>
            <a:off x="200160" y="2276640"/>
            <a:ext cx="9432720" cy="297324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7823-AE25-4985-9225-93A9294627A0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9528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owerPoint 4</a:t>
            </a: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4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          Chapter 4</a:t>
            </a:r>
            <a:endParaRPr b="0" lang="en-US" sz="2400" spc="-1" strike="noStrike">
              <a:solidFill>
                <a:srgbClr val="fbf5ea"/>
              </a:solidFill>
              <a:latin typeface="Verdan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88880" y="981000"/>
            <a:ext cx="871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ctr">
              <a:lnSpc>
                <a:spcPct val="120000"/>
              </a:lnSpc>
              <a:tabLst>
                <a:tab algn="l" pos="0"/>
                <a:tab algn="l" pos="1596960"/>
                <a:tab algn="l" pos="336708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Figure 4.9: Completed Ledger for Pacific Trucking</a:t>
            </a:r>
            <a:endParaRPr b="0" lang="en-US" sz="2000" spc="-1" strike="noStrike">
              <a:solidFill>
                <a:srgbClr val="fbf5ea"/>
              </a:solidFill>
              <a:latin typeface="Verdana"/>
            </a:endParaRPr>
          </a:p>
        </p:txBody>
      </p:sp>
      <p:pic>
        <p:nvPicPr>
          <p:cNvPr id="273" name="Picture 4" descr="fg006_ppt_acct1_7e_tr"/>
          <p:cNvPicPr/>
          <p:nvPr/>
        </p:nvPicPr>
        <p:blipFill>
          <a:blip r:embed="rId1"/>
          <a:stretch/>
        </p:blipFill>
        <p:spPr>
          <a:xfrm>
            <a:off x="344520" y="1400040"/>
            <a:ext cx="8929800" cy="367200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291960" y="654372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FFE4-097F-4463-B38D-04FC6928390D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bf5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23Z</dcterms:created>
  <dc:creator>rosimerr</dc:creator>
  <dc:description>Built by: www.mediasterling.com</dc:description>
  <dc:language>en-US</dc:language>
  <cp:lastModifiedBy>Les MacKay - STC</cp:lastModifiedBy>
  <cp:lastPrinted>2012-11-26T19:22:02Z</cp:lastPrinted>
  <dcterms:modified xsi:type="dcterms:W3CDTF">2015-03-12T12:40:07Z</dcterms:modified>
  <cp:revision>8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4</vt:lpwstr>
  </property>
</Properties>
</file>